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gif" ContentType="image/gif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</p:sldIdLst>
  <p:sldSz cx="9144000" cy="51450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D776-99CA-4D00-9D85-764905DE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22D-49C0-41BA-ADFB-5A38EC69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07F52-857A-4EDD-BC34-95AF713FF7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85CC-8176-4EF1-AA08-E2B4115EA0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DEF9-7C01-4FF2-A3DD-0C29E6C4D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7741D-40D7-4E5E-A8AA-947A039AD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5BA81-1CBB-4B3C-9C90-BD853FBB3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59267-C941-4277-90FE-48478BF0D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3ECD7-205C-4339-9820-278ACC0C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F6750-BE00-4A1A-870E-A00FAC44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9A190-630A-48C7-B901-345F50E88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C855-DC38-41F2-9E40-66FA60554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C5455-6AF4-4F20-80E7-DCE87B80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6C1DE-D5EB-4ECD-8C7C-DE2FD3F5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5F6EC-50CD-4AC7-8EE6-3A6B5A169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2B207-AAC2-49EB-82B0-3E52B74D5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70F3D-7822-4C43-BD7B-A0C5B2499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77C11-DFE9-4B21-85C6-F9AEA9F16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C1AD41-B734-4CE7-96A6-881E36181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D3F23-FF85-46E9-AFED-F2AAA1C5B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97367B-0486-4767-9558-036FD6B65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E75673-E706-441F-BA64-6516823CE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CD6F-9FD8-49AF-B60C-D7E240238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CDA47-5C29-48CB-95BA-6419BDDB7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52C5E2-40F7-4F45-B200-E006C3BCB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9E2B0A-DE73-4F98-A189-471AABB2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4B816-29D5-4AC6-8901-8A0567B5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F3A70-69F0-49AD-AF15-FB52B59E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06D671-F814-46D5-8DFC-77D1F61DA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A50D9F-F71F-435C-8C11-6369B6725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8391E-6C09-4EB9-B31B-7047E58D0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CAEAE1-CC0E-4A09-87ED-C1DE91697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4F40F9-2F04-4253-A7E1-DAB632074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CBDA-D34D-4DB1-8C7B-AEE92E3C9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D314C8-29CE-43A9-9F59-5BF54788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3F6449-9A93-4E36-8257-65B678E2A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6A3F4-76FC-407F-B89F-2400B9CD0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FE46C4-D297-413F-8924-39B14D84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0050A-C9B8-4DEC-9534-ABA53962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44E35-BA27-478C-80A4-4598699E7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C7E473-78F7-4F43-8CEB-7ECDF94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AAC3DD-A57B-463C-A13F-C61B8DE78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A37D9C-12A0-473F-96AB-FA1846AB6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8009A3-AA0B-4F97-BA0E-EC9002B9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27AC5-C96B-434D-BC11-0E12A26D2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subTitle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D5435-5802-438A-B46C-118AC8BBD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CD3815-EBA6-42F3-B0CA-01578EA25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31DAFA-94C0-4FCA-AF08-8C53C407F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09E0B-89AC-4D40-9C65-AA168CD11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AADB22-775D-4409-A295-E0062D28D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334F7-C0AC-4857-8582-6B508A05A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E0F08-9B53-4986-B0BB-D038FD350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6AC5D-7E09-4132-A889-7A80C2D33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706CCB-B788-4680-BF25-2D6282403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A2547-86BD-4BB4-BAAE-2A5A8D5777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08040" y="95040"/>
            <a:ext cx="6462720" cy="465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C752-BE43-4A53-9EDA-F9860FF3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393480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6361920" y="126360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150768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21" name="PlaceHolder 6"/>
          <p:cNvSpPr>
            <a:spLocks noGrp="1"/>
          </p:cNvSpPr>
          <p:nvPr>
            <p:ph/>
          </p:nvPr>
        </p:nvSpPr>
        <p:spPr>
          <a:xfrm>
            <a:off x="393480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22" name="PlaceHolder 7"/>
          <p:cNvSpPr>
            <a:spLocks noGrp="1"/>
          </p:cNvSpPr>
          <p:nvPr>
            <p:ph/>
          </p:nvPr>
        </p:nvSpPr>
        <p:spPr>
          <a:xfrm>
            <a:off x="6361920" y="3003480"/>
            <a:ext cx="231120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DD41CE-EC23-44E7-9FC4-1AB5B25C0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FEF43-26A2-498B-8ACF-BD82F113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86520" y="300348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2693-0294-4E1F-BF9A-251DF96EA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50768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86520" y="1263600"/>
            <a:ext cx="35031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507680" y="3003480"/>
            <a:ext cx="7178760" cy="158868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9F30-2864-4F87-BAAB-75F843D7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gif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BCFA3-857B-47A0-98FF-0F6C42D0E56E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172C54-5F65-4B89-983E-A96BA4C3F4C1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7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507680" y="1263600"/>
            <a:ext cx="7178760" cy="3330720"/>
          </a:xfrm>
          <a:prstGeom prst="rect">
            <a:avLst/>
          </a:prstGeom>
          <a:noFill/>
          <a:ln w="0">
            <a:noFill/>
          </a:ln>
        </p:spPr>
        <p:txBody>
          <a:bodyPr lIns="36000" rIns="0" tIns="0" bIns="0" anchor="t">
            <a:normAutofit fontScale="63000"/>
          </a:bodyPr>
          <a:p>
            <a:pPr marL="2160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6000" indent="-2160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6000" indent="-2160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5A42948-E6B7-4744-8586-E231034DB0DB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B9ACE6A-3DF1-4B00-9873-C67E87B44D95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9"/>
          <p:cNvSpPr/>
          <p:nvPr/>
        </p:nvSpPr>
        <p:spPr>
          <a:xfrm>
            <a:off x="1355760" y="1036800"/>
            <a:ext cx="6681600" cy="3730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42BB65-1093-437D-8881-6CFA55072345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ED6794-E946-4638-9B99-ED6B59E9B414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9"/>
          <p:cNvSpPr/>
          <p:nvPr/>
        </p:nvSpPr>
        <p:spPr>
          <a:xfrm>
            <a:off x="1355760" y="1036800"/>
            <a:ext cx="6681600" cy="3730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9D39F1-D9BD-4AF1-9A4E-F50789EF61DE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55E34D-69FF-4336-95EF-FE580DA199ED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" descr="UNEP_300px_e.jpg"/>
          <p:cNvPicPr/>
          <p:nvPr/>
        </p:nvPicPr>
        <p:blipFill>
          <a:blip r:embed="rId3"/>
          <a:stretch/>
        </p:blipFill>
        <p:spPr>
          <a:xfrm>
            <a:off x="263520" y="114480"/>
            <a:ext cx="853920" cy="9968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1" descr=""/>
          <p:cNvPicPr/>
          <p:nvPr/>
        </p:nvPicPr>
        <p:blipFill>
          <a:blip r:embed="rId4"/>
          <a:stretch/>
        </p:blipFill>
        <p:spPr>
          <a:xfrm>
            <a:off x="7797960" y="169920"/>
            <a:ext cx="1272960" cy="89064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9"/>
          <p:cNvSpPr/>
          <p:nvPr/>
        </p:nvSpPr>
        <p:spPr>
          <a:xfrm>
            <a:off x="1355760" y="1036800"/>
            <a:ext cx="6681600" cy="37303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8000" rIns="0" tIns="0" bIns="0" anchor="t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8040" y="95040"/>
            <a:ext cx="6462720" cy="100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ts val="33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1507680" y="1336320"/>
            <a:ext cx="7178760" cy="325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2000"/>
          </a:bodyPr>
          <a:p>
            <a:pPr marL="21240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1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2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3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4" marL="212400" indent="-212400">
              <a:spcBef>
                <a:spcPts val="601"/>
              </a:spcBef>
              <a:buClr>
                <a:srgbClr val="214a79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5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  <a:p>
            <a:pPr lvl="6" marL="212400" indent="-2124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214a79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214a79"/>
              </a:solidFill>
              <a:latin typeface="Verdan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 type="dt" idx="13"/>
          </p:nvPr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9177EA-3403-49F7-9F4E-226DBF169BB0}" type="datetime">
              <a:rPr b="0" lang="en-US" sz="800" spc="-1" strike="noStrike">
                <a:solidFill>
                  <a:srgbClr val="898989"/>
                </a:solidFill>
                <a:latin typeface="Verdana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 type="ftr" idx="14"/>
          </p:nvPr>
        </p:nvSpPr>
        <p:spPr>
          <a:xfrm>
            <a:off x="2376360" y="4853160"/>
            <a:ext cx="439128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 type="sldNum" idx="15"/>
          </p:nvPr>
        </p:nvSpPr>
        <p:spPr>
          <a:xfrm>
            <a:off x="6936840" y="4853160"/>
            <a:ext cx="2133720" cy="27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8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0F49911-0CC0-40BB-A313-A6ECB943F171}" type="slidenum">
              <a:rPr b="0" lang="en-US" sz="8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211400" y="176040"/>
            <a:ext cx="6789600" cy="1020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ts val="3699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nding of article 5 par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Date Placeholder 3"/>
          <p:cNvSpPr/>
          <p:nvPr/>
        </p:nvSpPr>
        <p:spPr>
          <a:xfrm>
            <a:off x="87480" y="485316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D00D17D-084D-47A9-AADF-F4E0F68109E5}" type="datetime">
              <a:rPr b="0" lang="en-US" sz="800" spc="-1" strike="noStrike">
                <a:solidFill>
                  <a:srgbClr val="898989"/>
                </a:solidFill>
                <a:latin typeface="Verdana"/>
                <a:ea typeface="MS PGothic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4" descr=""/>
          <p:cNvPicPr/>
          <p:nvPr/>
        </p:nvPicPr>
        <p:blipFill>
          <a:blip r:embed="rId1"/>
          <a:stretch/>
        </p:blipFill>
        <p:spPr>
          <a:xfrm>
            <a:off x="1211400" y="1233360"/>
            <a:ext cx="6789600" cy="36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8T13:13:43Z</dcterms:created>
  <dc:creator>Dave Forman</dc:creator>
  <dc:description/>
  <dc:language>en-US</dc:language>
  <cp:lastModifiedBy>Kathleen Creavalle</cp:lastModifiedBy>
  <cp:lastPrinted>2015-10-21T16:54:53Z</cp:lastPrinted>
  <dcterms:modified xsi:type="dcterms:W3CDTF">2015-11-02T18:40:45Z</dcterms:modified>
  <cp:revision>18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 Symbol">
    <vt:lpwstr>M6</vt:lpwstr>
  </property>
</Properties>
</file>