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CB5-9AB6-4371-AF96-04376A90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9A9-54D4-4705-8389-95B29163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76A-6F6D-4421-8F05-08DB0ED9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B15-56BB-454A-87A6-43491D36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6F30-A5AD-493C-A16B-3CCB5E63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0CB8-D3B6-4FDC-AE72-1FC8343E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CE2-986D-48FD-ACF6-3AD5447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155B-4847-4D1A-8CE1-146A7DC2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EB85-C98B-4433-8D60-476CDD07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2B29-BE6E-4A8F-BEEE-026CB164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FD46-26F4-44E8-90AF-0B5ED456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110-1C90-4EA4-8383-5883BAF5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C456-F368-410F-A77A-0F0602B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5DFA-F365-42D2-AF2F-F0E445CD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33C9-8877-4F80-BEE0-ED298E10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8566-550B-4F13-A95E-92A0B870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49D-02C4-4430-8F70-91201A2F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D9E4-61B8-425A-9DEB-6A8978E6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A34C-4E95-433D-82BE-BCCB789A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84C1-F2C3-447C-8832-22BFD926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FFE9-FBC1-48A2-AFB4-B39D5C9B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2D09-D423-45E0-8D4D-C382705C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0DC-2555-4D6D-A4DD-739D4452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3DF2-09F6-4FDD-9B32-A4B5DB03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19C6-0C9E-468C-9EF6-2248657E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6499-EB46-495A-9105-63F934A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A525-CC76-46FD-9E87-4FDA4D0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F468-B968-4A7C-80D9-C5F9526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674A-F4BD-45FB-B802-4C9ADC29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C110-BB5B-4A0C-B936-7A5330E9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BC30-7249-4657-9CC1-C332DFCF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7EC73-DB2D-42F3-8359-606A0E1C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50194-6759-4A61-8A33-844166F2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DEA-A3C8-4807-99BF-BCC48AFD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4D7E-2A0C-426F-8231-390F36CC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0ECB-F20B-48A1-9E6D-988268FD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D04F-B6A4-424E-971E-62DA5FB0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1FC3-7C5E-4D1F-AA31-FABC46B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8569-4D7B-459C-B40F-0ACADCA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4372-9361-419D-8C4A-4536E62D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30B5-9AAF-4452-9337-569C9DCC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CB2B-ECE5-48B9-A6C1-7789B68A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00ED-2F13-45BA-B4FF-7D57E823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9BD7-E8C5-4845-817A-2E4014B3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ACA-447F-4AC3-A823-ABEB35F2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1628E-9D1A-4F9B-8B6D-B44EE128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1DF1-5B26-4F01-8379-C508EAD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078C-6D86-4CCE-B009-3824505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0937-F261-499C-B1F1-B2D4A1F8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382E4-E561-456A-8EBA-13C865C5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C5E3-4AC0-44F3-94B7-4CE4032E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97E58-8F18-4622-BC82-17AD896B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450C-A9FB-4DAD-8B98-7BA8B88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B96E-2F8A-4964-92B6-01EACCD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3BCE-3AAC-4DE3-B5D3-DD12BDB5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194-0125-43BF-835C-210EA38A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22DB-43F0-44A6-8C9E-4C9C676D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546-AA86-4E47-8737-27DFA77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A47-9C4B-4872-9592-ED9AAD68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6AB-CA2A-4B07-B066-3801CA9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D3485-8C9C-43AB-BAD1-3E9DBE10BDA8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6E9FC-8168-474D-A71A-A2F1EE50CAE5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 fontScale="63000"/>
          </a:bodyPr>
          <a:p>
            <a:pPr marL="2160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F8A45-0264-4FF9-BE6A-89E37CDA22E9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76B9E-1427-49B0-8C89-44439D1636C4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1355760" y="1036800"/>
            <a:ext cx="6681600" cy="3730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401EB-8D57-43E2-BC9D-0FACAB3689E7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76D2B-DC8B-443D-A0E3-1436B44F0230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355760" y="1036800"/>
            <a:ext cx="6681600" cy="3730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D61BB-3306-4205-8265-833FE90A91F6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B355B-D96D-4099-B13E-1C4E3F4E6BDC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9"/>
          <p:cNvSpPr/>
          <p:nvPr/>
        </p:nvSpPr>
        <p:spPr>
          <a:xfrm>
            <a:off x="1355760" y="1036800"/>
            <a:ext cx="6681600" cy="3730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4CD96-B197-487F-859A-BA21618E49DA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E0AE8-DE52-4382-B2F7-CA13D0017BD7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1400" y="176040"/>
            <a:ext cx="678960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6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ding of article 5 pa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F79CB-4F0B-45E2-A338-80DA2F1FD564}" type="datetime">
              <a:rPr b="0" lang="en-US" sz="800" spc="-1" strike="noStrike">
                <a:solidFill>
                  <a:srgbClr val="898989"/>
                </a:solidFill>
                <a:latin typeface="Verdana"/>
                <a:ea typeface="MS PGothic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211400" y="1233360"/>
            <a:ext cx="678960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3:13:43Z</dcterms:created>
  <dc:creator>Dave Forman</dc:creator>
  <dc:description/>
  <dc:language>en-US</dc:language>
  <cp:lastModifiedBy>Kathleen Creavalle</cp:lastModifiedBy>
  <cp:lastPrinted>2015-10-21T16:54:53Z</cp:lastPrinted>
  <dcterms:modified xsi:type="dcterms:W3CDTF">2015-11-02T18:40:45Z</dcterms:modified>
  <cp:revision>1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Symbol">
    <vt:lpwstr>M6</vt:lpwstr>
  </property>
</Properties>
</file>