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54D-9F90-42F6-922F-CD64CF9C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AC0-A2EA-4F7F-A7A3-B97A51EC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CEC-A059-40A4-9EF8-92519B06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E3A-A1CF-424E-900A-53328A2B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2214-4E87-427D-AEA5-20404941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D4FA-002F-4585-A205-3506046A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7EF-9685-46D3-9E42-A85DE788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DEDA-8C5D-4A81-92A7-3CCDEC9D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7B09-3FA4-472D-976A-3ACC6B6C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2B6A-99B8-454D-8140-786F8BA8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911D-065F-46DF-8F58-5389680F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524-0C72-40CC-AD14-04D68D1B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42B4-93E6-4894-A82F-311338C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F330-85BE-4DA7-81C2-B182459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3DA7-CF32-455C-8C1B-3C9AB818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B4F2-F3C9-4517-9345-F632124B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3493-9EF9-4A0E-8873-7699E8CA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9D87-DAAF-473D-898E-FFD2E4F4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B817-E05F-4824-BD2B-68D338B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5108-4A35-4220-8343-6EB202E5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40F58-84DE-43C6-BBDE-3AFA2F42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3183-FAEC-4237-A800-82717F7C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981-1CAB-49CF-AE14-6874A55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C5D0-824E-4754-B967-72D5836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0E26-6C8C-4A30-9ED6-89564B54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650E-2AAF-4966-AA86-032634B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5CBE2-659F-469F-8B35-D369D86A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589B-0489-42AA-A8DB-CCCC40FD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9C472-4F84-46E0-ADCE-25BB8D7E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CEFF-4C37-499B-B4AE-A456887C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9FE8-105E-4FB2-ADFF-43FBA7CE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143BE-8F3D-4ACF-9439-03AEF63A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20E8-144D-46F4-B236-DBF4D441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87B-3991-4B27-927A-03A4C444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4712-4810-4B14-8292-60C58B9D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3299A-AADD-4D23-9B04-0B68F418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4827-ABAA-4213-965A-32998269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4B177-6B70-4EC7-928A-0F7C727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5971-56D8-48B8-B37C-2B53A1E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8FB94-7CC5-4667-83B3-EAFF67CE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39E97-7095-43F7-981D-0E27D9D6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DA61-FAE6-4170-9A62-5FFF265B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B745-97AE-486B-90CA-07839AA8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9D7EC-9CC4-4FEE-81A4-958DB9BE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533-3D77-4843-A632-E850B8BE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39DE-BAB9-4A31-890C-0EFA6AD1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08603-07B6-4C9A-9FDE-1398C99B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C1DE-E376-4A40-8E6E-5752830B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EA8AB-EDFE-46D1-A754-F64BFC48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B3345-F76D-4759-96A8-49C5BFC6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0B061-9352-47D9-ACDB-5D19B43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6FB9-15B6-4C32-BACB-75A63441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54C4-FAA0-4F43-ACA0-A3248A2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75EC6-EB38-4A7A-8C4A-3467CF7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910B0-5374-4B73-A62B-F30FA8D2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2F1-71FD-47DB-B74E-A9FE7B92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CFECC-F5CF-4923-96B7-2F2433EA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21B-E20F-4D40-91C8-82FEF841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652-52F5-4AA4-96AA-D18ADA21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29A-D9A7-4CC5-A7B0-38FCC219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53724-CEA3-4B87-BAEA-A34ADBB87843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28CA2-568F-4E3C-BA85-CDB3AE4EAFCF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 fontScale="63000"/>
          </a:bodyPr>
          <a:p>
            <a:pPr marL="2160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AD2A2-9A3F-4599-A69F-E9BBE9B264F5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BA7B1-D4C6-4EA5-9F40-E65A7731B63A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1355760" y="1036800"/>
            <a:ext cx="6681600" cy="3730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FE95A-9001-4015-AB39-7CF36979010A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D5295-C74E-4017-96EC-712684179C31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355760" y="1036800"/>
            <a:ext cx="6681600" cy="3730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A178B-9F76-47B9-95A1-EEA76B0D1087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F741B-1B4B-4B70-B6EA-9A5B711DA4F0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9"/>
          <p:cNvSpPr/>
          <p:nvPr/>
        </p:nvSpPr>
        <p:spPr>
          <a:xfrm>
            <a:off x="1355760" y="1036800"/>
            <a:ext cx="6681600" cy="3730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4D619-DE08-420F-88C1-3656BA214C51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BC74B-12C9-4CF9-87E7-4C8283D506FF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1400" y="176040"/>
            <a:ext cx="678960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6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ding of article 5 pa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C896B-CB5A-40D7-964D-28B78217C7DF}" type="datetime">
              <a:rPr b="0" lang="en-US" sz="800" spc="-1" strike="noStrike">
                <a:solidFill>
                  <a:srgbClr val="898989"/>
                </a:solidFill>
                <a:latin typeface="Verdana"/>
                <a:ea typeface="MS PGothic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211400" y="1233360"/>
            <a:ext cx="678960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3:13:43Z</dcterms:created>
  <dc:creator>Dave Forman</dc:creator>
  <dc:description/>
  <dc:language>en-US</dc:language>
  <cp:lastModifiedBy>Kathleen Creavalle</cp:lastModifiedBy>
  <cp:lastPrinted>2015-10-21T16:54:53Z</cp:lastPrinted>
  <dcterms:modified xsi:type="dcterms:W3CDTF">2015-11-02T18:40:45Z</dcterms:modified>
  <cp:revision>1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Symbol">
    <vt:lpwstr>M6</vt:lpwstr>
  </property>
</Properties>
</file>